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F37-7B7C-4BDD-98AE-69980051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019-3B2E-48EC-AEBF-C67D013D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745-EE69-41D1-A265-280B48E0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6E8-4437-4E5A-863B-A7156435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0BF-4BC6-4A2F-9664-8B60F864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5404-21A8-49CC-BE6B-D8C49EC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CA86-C25B-4D0B-970E-ADAD8A1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DA51-39D6-49F9-9530-312E9314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DF88-6571-4DB8-A6FE-2B01379B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7A3-AB53-4F11-A026-AED35B9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104A-1418-491D-867B-6CD9468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84C-0814-4857-9476-E903FCD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D0BE-35B3-48AD-AD27-03E5C472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0014-5019-45C1-B3F9-67FE38A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8F50-CD06-41C7-9A34-2A6BBFE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63A3-EAE8-4466-9AFF-0C337DC1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9CBD-D3F6-4FA7-AD13-785AECE5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8E93-EC10-43FB-8BDC-F4046344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F5FD-F7B9-42C0-87E0-E9B5709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F35E-AACD-4AED-98CB-0D17FB7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7C8A-4988-4FFD-8853-0399CCD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3681-5894-4C73-B320-570F00B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6AC-BFB2-469B-961E-DC7436F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795C-67F2-448B-8889-EDC93EBD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CF07-3DE2-44A3-A9B7-201BD2D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609B-4BE4-4107-947F-40CD45D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AAF7-F7F5-4626-A81C-535984C2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2E76-FFA1-42FF-BCD2-BB1E9CF1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D8D1-DADF-4E53-8478-B1AF88DA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2927-240A-4BBC-96BD-4C69EB02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333B-ACB9-47B6-AEF8-CF803882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53B0-A251-4D6D-877F-7A4BEFA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7906-F296-49A6-B31A-76FEA34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C6F-984F-41B9-9949-71E225F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B19D-0BFC-411B-AB2B-47A38219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E68F-D44A-466B-9423-02B4613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F4C6-4307-42C1-B7DF-A808AEC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F2D5-DE91-4B7F-BA07-29B83BE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027A-1887-4179-9CD6-FBAFACE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67B5-759D-4DA5-9051-23D0CCC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893D-FD56-4422-90BD-FC5B643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6C8B-7C43-4F4F-9CBD-589691B3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5D9C-F04F-45FF-A3CE-512A0257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49F4-5AAE-46F9-AA73-6756DB07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213-83DC-40D2-BA64-AF53541B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6FE71-FD65-4655-AC2E-296E9DAE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446C-6711-419D-93EF-9B8BCEA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5CF2-1A8A-4A4A-AA39-B695060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A29F-C181-47C8-BE46-7628409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C892-9830-4980-952C-22E844E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944D-6551-4087-B029-6D976A96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CDD0-0B4E-4E53-B295-323CD81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F86D-1A5C-4462-B351-89DE275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F172-570D-4EDA-9960-EF7D2E20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F54D-1470-4FD2-A8B6-A20F66A4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91E-66CC-4E78-9465-54C14AA4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E2CD-50DD-46E0-8C5F-443F484C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31E0-AE62-4A6E-84D1-0FA66055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A02D-2717-4BA7-AC21-08721FC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4115-7B7C-4AD7-9EB9-721FFC1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4661-C078-4B0A-B72E-ED14A24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B466-3636-45BA-BD7A-7103CB30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BADA-AD95-4050-9881-5E177AEE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2169-9C74-4C43-A1CA-DAD1E04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C962-71F8-4964-9FB8-4A69951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821A-D869-4DF9-A36E-4812B47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F16-42EF-46DA-9F74-22A88F5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2E6E-905E-4248-9154-E7C0032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3E38-C698-4B2B-89AE-3C2C3D0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4D2A-3F55-45E5-BCBE-9E9A727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F5A9E-E3E3-466A-AFA1-7150DF82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396D-8F48-4345-A992-94C864C3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CAFC-2E8E-4CFE-9A76-E9D95D6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1220-514B-43B7-B09C-D0E8E38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7C8B-297C-44AB-BDAB-ACCDAE3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E7AA-9756-49F6-A3B5-D746FD4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D2024-C745-405E-9C42-F8F473E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C01-5179-472C-8559-23204B3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22A8-832D-4F1D-ABD9-9C93085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EAD7C-E959-471B-BAA5-DE21B56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01265-CE02-4A66-8890-3B3C0483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5936-C220-4836-8689-F3A1FF07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7E32-4D79-4635-8990-CF9A4B3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923-CE2B-447E-94BA-CECE4E1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E730-4AF9-4A88-9FF0-1891F36F9563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F1CD-CE31-4E05-B48F-D42B47C0E011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D522-4F2B-407B-B5A4-829E7A7500AC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690-3F39-4708-9C2D-69D17038C5B0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20A1-1363-4B95-9D07-E47D91E2C68F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B30A-095A-4F2F-897E-2A62756C1E15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F7A-8FA3-4EE0-895F-C27B548179EF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95a74"/>
                </a:solidFill>
                <a:latin typeface="Arial Black"/>
              </a:rPr>
              <a:t>Тема: Профессии. Труд людей.</a:t>
            </a:r>
            <a:br>
              <a:rPr sz="3200"/>
            </a:b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19" name="Прямоугольник 3" descr=""/>
          <p:cNvPicPr/>
          <p:nvPr/>
        </p:nvPicPr>
        <p:blipFill>
          <a:blip r:embed="rId1"/>
          <a:stretch/>
        </p:blipFill>
        <p:spPr>
          <a:xfrm>
            <a:off x="841320" y="476280"/>
            <a:ext cx="8339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2642760"/>
            <a:ext cx="749952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 точат, чтобы стала острее, человека учат, чтобы стал умне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469800"/>
            <a:ext cx="8521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214800" y="1428840"/>
            <a:ext cx="3429000" cy="44114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109440"/>
            <a:ext cx="3895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6d19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то в дни болезней всех п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лечит нас от всех болезне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689040" y="255600"/>
            <a:ext cx="8607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8480" y="3928680"/>
            <a:ext cx="725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ты прочитал?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ты понимаешь эту пословицу?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4" name="Овал 3"/>
          <p:cNvSpPr/>
          <p:nvPr/>
        </p:nvSpPr>
        <p:spPr>
          <a:xfrm>
            <a:off x="1571760" y="16430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4"/>
          <p:cNvSpPr/>
          <p:nvPr/>
        </p:nvSpPr>
        <p:spPr>
          <a:xfrm>
            <a:off x="6286680" y="1714680"/>
            <a:ext cx="107136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в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4929120" y="1714680"/>
            <a:ext cx="91440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Овал 6"/>
          <p:cNvSpPr/>
          <p:nvPr/>
        </p:nvSpPr>
        <p:spPr>
          <a:xfrm>
            <a:off x="3643200" y="1714680"/>
            <a:ext cx="84312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Овал 8"/>
          <p:cNvSpPr/>
          <p:nvPr/>
        </p:nvSpPr>
        <p:spPr>
          <a:xfrm>
            <a:off x="1928880" y="3000240"/>
            <a:ext cx="12142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рыб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Овал 9"/>
          <p:cNvSpPr/>
          <p:nvPr/>
        </p:nvSpPr>
        <p:spPr>
          <a:xfrm>
            <a:off x="4500720" y="30002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Овал 10"/>
          <p:cNvSpPr/>
          <p:nvPr/>
        </p:nvSpPr>
        <p:spPr>
          <a:xfrm>
            <a:off x="3000240" y="3000240"/>
            <a:ext cx="114300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к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Овал 11"/>
          <p:cNvSpPr/>
          <p:nvPr/>
        </p:nvSpPr>
        <p:spPr>
          <a:xfrm>
            <a:off x="5929200" y="3000240"/>
            <a:ext cx="92880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пр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Овал 12"/>
          <p:cNvSpPr/>
          <p:nvPr/>
        </p:nvSpPr>
        <p:spPr>
          <a:xfrm>
            <a:off x="6715080" y="3000240"/>
            <a:ext cx="1000080" cy="84312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Овал 13"/>
          <p:cNvSpPr/>
          <p:nvPr/>
        </p:nvSpPr>
        <p:spPr>
          <a:xfrm>
            <a:off x="2857680" y="1714680"/>
            <a:ext cx="85716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тр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Овал 14"/>
          <p:cNvSpPr/>
          <p:nvPr/>
        </p:nvSpPr>
        <p:spPr>
          <a:xfrm>
            <a:off x="7215120" y="1714680"/>
            <a:ext cx="1428840" cy="842760"/>
          </a:xfrm>
          <a:prstGeom prst="ellipse">
            <a:avLst/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 Black"/>
              </a:rPr>
              <a:t>неш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Прямоугольник 15" descr=""/>
          <p:cNvPicPr/>
          <p:nvPr/>
        </p:nvPicPr>
        <p:blipFill>
          <a:blip r:embed="rId1"/>
          <a:stretch/>
        </p:blipFill>
        <p:spPr>
          <a:xfrm>
            <a:off x="1243080" y="219240"/>
            <a:ext cx="78516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кругленный прямоугольник 13"/>
          <p:cNvSpPr/>
          <p:nvPr/>
        </p:nvSpPr>
        <p:spPr>
          <a:xfrm>
            <a:off x="1214280" y="3429000"/>
            <a:ext cx="162900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Я учус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Скругленный прямоугольник 14"/>
          <p:cNvSpPr/>
          <p:nvPr/>
        </p:nvSpPr>
        <p:spPr>
          <a:xfrm>
            <a:off x="3071880" y="171468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пе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Скругленный прямоугольник 15"/>
          <p:cNvSpPr/>
          <p:nvPr/>
        </p:nvSpPr>
        <p:spPr>
          <a:xfrm>
            <a:off x="3071880" y="278604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рисов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кругленный прямоугольник 16"/>
          <p:cNvSpPr/>
          <p:nvPr/>
        </p:nvSpPr>
        <p:spPr>
          <a:xfrm>
            <a:off x="3071880" y="385776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пис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Скругленный прямоугольник 17"/>
          <p:cNvSpPr/>
          <p:nvPr/>
        </p:nvSpPr>
        <p:spPr>
          <a:xfrm>
            <a:off x="3071880" y="5000760"/>
            <a:ext cx="15001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счит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Скругленный прямоугольник 18"/>
          <p:cNvSpPr/>
          <p:nvPr/>
        </p:nvSpPr>
        <p:spPr>
          <a:xfrm>
            <a:off x="5143680" y="171468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матема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Скругленный прямоугольник 19"/>
          <p:cNvSpPr/>
          <p:nvPr/>
        </p:nvSpPr>
        <p:spPr>
          <a:xfrm>
            <a:off x="5143680" y="385776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рисо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Скругленный прямоугольник 20"/>
          <p:cNvSpPr/>
          <p:nvPr/>
        </p:nvSpPr>
        <p:spPr>
          <a:xfrm>
            <a:off x="5143680" y="500076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музы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Скругленный прямоугольник 21"/>
          <p:cNvSpPr/>
          <p:nvPr/>
        </p:nvSpPr>
        <p:spPr>
          <a:xfrm>
            <a:off x="5143680" y="278604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381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 Black"/>
              </a:rPr>
              <a:t>на уроке грамма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Прямоугольник 11" descr=""/>
          <p:cNvPicPr/>
          <p:nvPr/>
        </p:nvPicPr>
        <p:blipFill>
          <a:blip r:embed="rId1"/>
          <a:stretch/>
        </p:blipFill>
        <p:spPr>
          <a:xfrm>
            <a:off x="1060560" y="79200"/>
            <a:ext cx="8076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профессию вы выберете, когда выраст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го вы хотите быть похожи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Прямоугольник 3" descr=""/>
          <p:cNvPicPr/>
          <p:nvPr/>
        </p:nvPicPr>
        <p:blipFill>
          <a:blip r:embed="rId1"/>
          <a:stretch/>
        </p:blipFill>
        <p:spPr>
          <a:xfrm>
            <a:off x="2603520" y="109440"/>
            <a:ext cx="48830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 мы выясни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 уважением относитесь к людям, которые вас учат, лечат, перевозя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наете, какую трудную работу выполняют люди этих професс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Прямоугольник 3" descr=""/>
          <p:cNvPicPr/>
          <p:nvPr/>
        </p:nvPicPr>
        <p:blipFill>
          <a:blip r:embed="rId1"/>
          <a:stretch/>
        </p:blipFill>
        <p:spPr>
          <a:xfrm>
            <a:off x="2322360" y="42840"/>
            <a:ext cx="515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61508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крепить представления учащихся о профессии учителя, водителя, врач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регировать речь учащихся путем составления предложений, ответов на вопрос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регировать логическое мышление путем отгадывания загадок, объяснения пословиц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словарь, связную речь, грамматический и лексический материал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ывать у учащихся уважение к людям труда.</a:t>
            </a:r>
            <a:endParaRPr b="0" lang="en-US" sz="20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1" name="Прямоугольник 2" descr=""/>
          <p:cNvPicPr/>
          <p:nvPr/>
        </p:nvPicPr>
        <p:blipFill>
          <a:blip r:embed="rId1"/>
          <a:stretch/>
        </p:blipFill>
        <p:spPr>
          <a:xfrm>
            <a:off x="2322360" y="609480"/>
            <a:ext cx="34815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одит машин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ечит детей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шьет одежд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отовит ед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ит детей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очиняет музыку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грает в кино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6286680" y="3214800"/>
            <a:ext cx="164304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d19"/>
                </a:solidFill>
                <a:latin typeface="Arial Black"/>
              </a:rPr>
              <a:t>шве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4"/>
          <p:cNvSpPr/>
          <p:nvPr/>
        </p:nvSpPr>
        <p:spPr>
          <a:xfrm>
            <a:off x="6286680" y="5572080"/>
            <a:ext cx="171432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акте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6286680" y="200016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шофе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6286680" y="264312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6286680" y="3857760"/>
            <a:ext cx="164304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пова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6286680" y="4429080"/>
            <a:ext cx="164304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оугольник 9"/>
          <p:cNvSpPr/>
          <p:nvPr/>
        </p:nvSpPr>
        <p:spPr>
          <a:xfrm>
            <a:off x="6286680" y="5000760"/>
            <a:ext cx="200016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композитор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Прямоугольник 12" descr=""/>
          <p:cNvPicPr/>
          <p:nvPr/>
        </p:nvPicPr>
        <p:blipFill>
          <a:blip r:embed="rId1"/>
          <a:stretch/>
        </p:blipFill>
        <p:spPr>
          <a:xfrm>
            <a:off x="1749600" y="255600"/>
            <a:ext cx="637056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434960" y="1447560"/>
            <a:ext cx="342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еп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тел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ь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6357960" y="2643120"/>
            <a:ext cx="15717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6429240" y="3786120"/>
            <a:ext cx="15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вод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оугольник 5"/>
          <p:cNvSpPr/>
          <p:nvPr/>
        </p:nvSpPr>
        <p:spPr>
          <a:xfrm>
            <a:off x="6357960" y="1571760"/>
            <a:ext cx="157176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 Blac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Прямоугольник 6" descr=""/>
          <p:cNvPicPr/>
          <p:nvPr/>
        </p:nvPicPr>
        <p:blipFill>
          <a:blip r:embed="rId1"/>
          <a:stretch/>
        </p:blipFill>
        <p:spPr>
          <a:xfrm>
            <a:off x="2462040" y="182520"/>
            <a:ext cx="5426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d19"/>
                </a:solidFill>
                <a:latin typeface="Arial Black"/>
                <a:ea typeface="Times New Roman"/>
              </a:rPr>
              <a:t>Баран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шофер какой чудак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есть не мог ника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с спозаран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утил-вертел бара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чем крутил-верте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зял бы, да и съел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109440"/>
            <a:ext cx="70596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5334120" y="1857240"/>
            <a:ext cx="3809880" cy="3687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407196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8" descr=""/>
          <p:cNvPicPr/>
          <p:nvPr/>
        </p:nvPicPr>
        <p:blipFill>
          <a:blip r:embed="rId3"/>
          <a:stretch/>
        </p:blipFill>
        <p:spPr>
          <a:xfrm>
            <a:off x="2114640" y="182520"/>
            <a:ext cx="60958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529000" y="1447920"/>
            <a:ext cx="53118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2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42840"/>
            <a:ext cx="3895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любит ласку, чистоту и смаз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по работе воздается чест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1"/>
          <a:stretch/>
        </p:blipFill>
        <p:spPr>
          <a:xfrm>
            <a:off x="1054080" y="92160"/>
            <a:ext cx="81392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5737320" cy="4240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346" name="Прямоугольник 4" descr=""/>
          <p:cNvPicPr/>
          <p:nvPr/>
        </p:nvPicPr>
        <p:blipFill>
          <a:blip r:embed="rId2"/>
          <a:stretch/>
        </p:blipFill>
        <p:spPr>
          <a:xfrm>
            <a:off x="3322800" y="42840"/>
            <a:ext cx="3895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5:52:11Z</dcterms:created>
  <dc:creator>Белякевич Елена Александровна</dc:creator>
  <dc:description/>
  <dc:language>en-US</dc:language>
  <cp:lastModifiedBy>fry</cp:lastModifiedBy>
  <dcterms:modified xsi:type="dcterms:W3CDTF">2012-03-24T09:01:21Z</dcterms:modified>
  <cp:revision>55</cp:revision>
  <dc:subject/>
  <dc:title>Слайд 1</dc:title>
</cp:coreProperties>
</file>