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47C-343B-4923-8774-73676020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2D2-6077-4642-B4EB-B602FBC0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1E9-E18B-4FE5-B0F0-37C75CF8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631-E654-400D-9AC4-40097FC2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883D-829D-4D4D-854C-B82EB5F6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F596-2361-4F85-A335-218A94E6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AFDA-D5E3-4FC4-B7C3-4C131D51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71C5-368B-483C-A72F-EB29767E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6DBC-60F9-4CF9-8EF8-E6F81E70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A81D-580A-4CD1-948F-A538CD50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628A-D4AC-4107-B915-9263942B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A8D-E255-4E7C-BC32-2C3B5B6D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633D-2B7D-4C7B-A755-C533E4E8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FC16-48E2-4E14-AA23-D5DA01F2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834D-904F-4670-BA9F-E3E0EA33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CDAD-26D7-423B-881E-7EC7E47A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A60E-3FD7-4298-A270-C34D056B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B18E-A6A7-4A56-AEB8-07E41810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9013-C388-4E6E-9937-FDC30414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6DD36-3272-43A4-94EE-AA7ED2F4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BEC7C-0071-49E9-880F-47409256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64F4F-C7F9-4D0D-AAA5-835A6932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7EE-C076-46F4-84AF-9EB93185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4306-B805-49F4-B188-A1DD8563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7DA4-FB1D-4B8F-8E4F-C8444C7B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F520-DDD4-4029-94B6-85145CCF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73F3-F1D4-49D3-80EA-F174BC6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D60C-387E-4151-9B82-30AE9D7A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6E33-82F9-4790-BE75-F1F555EA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1C05-9B34-4D7B-9ECA-36A2AF5E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91F10-8E5A-4B44-9518-7B7125AD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E5226-7DA9-4B7D-B432-B8761063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B4CE5-091D-457E-B006-C1E90DCC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9E7-9251-4801-9060-45DB473C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C4B5-C292-4194-851E-FC13F3CE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D92D0-2961-4484-BEEE-48EE7930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5065-0282-4BBC-8EF9-01B6F7A6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EE63-415B-48C8-B51A-1873C293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537C-2D08-4EFA-A611-BDCE55CE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90219-1575-41E2-BBF4-AD03D42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2FA72-5826-4E92-B52E-B3ED5621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BC09-1314-4258-BB0D-1C65EFC6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94EE-8FDE-4F35-A8F9-807B8B64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310DD-9DE4-4DD1-A524-A6F1D02D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CED-FB46-4F3A-97D5-11601DA6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E49CF-13E3-403D-AC6C-87CCA4BC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2354D-A33A-4F83-85B8-2E539D04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47DF7-50BF-4F91-9F05-0D94F25B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09C1-E5FD-453B-982F-AD6910EE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5A7B1-D9E3-447C-A3E5-F78F3104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84424-1DA1-4AFD-98D0-8C5580C1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D8651-7A48-4263-989E-154C9850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A7BEB-C740-4676-86AC-5D03F98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875E-28CF-4150-91C9-B3CE2EAF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F56F3-40B8-4656-ADCC-48E5C12B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100-7EAB-4319-9C5E-322478B2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8915-F540-4663-B65A-55147EDB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56F50-8ED4-41A9-B134-BD08380C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5DD58-69BC-4112-B579-21A4856A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8B9F3-A9DC-4D13-8A08-4CA32968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FDACF-6121-46E4-BD0A-64353A68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878E1-01C6-45CD-B702-72934479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B4370-06DB-434A-81AE-A26937E6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1B219-F32D-4348-A090-523C978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0A7F4-4172-4373-96E8-A25D93E9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55E26-2FDF-4D10-80FC-36AB30FE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30C-76C7-4A88-860F-84B1945C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4E962-6300-4686-B651-E2782335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FCB43-56E1-476D-BDBC-60593C12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F63D0-EA8F-4D9E-90AA-6720008A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69F0E-84E2-4771-AB3A-F0A70CB3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3AFC-69D7-4279-9B65-D80DC612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0A6C1-F0F3-4124-8CF5-50036A98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DAF53-AB1B-4A30-8214-31909EE8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63F3-2671-44B6-B9BA-F0BD57E1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45E7F-F639-43F1-A38D-601AC7DC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A62D-22E8-4BC1-AD6D-D5C3436B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724-7BDF-4142-BA01-31C568E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978B8-35ED-4BD8-ADBE-63967733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F1235-56E6-42A5-82FE-1D0392D1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EDEA1-D8DE-48ED-AC26-17CA434D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0759E-C47E-4A07-88D6-601D35B5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38AC9-F7FD-4D32-9153-62228952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612-AD7C-4927-99A8-800388E3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4B82-F735-4B79-9B61-B91EA3C4CD06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F9A6-8A0A-47D7-AF38-EF959595BA24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3700-025E-4DBC-BB05-7456A7FF2949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577C-0005-43F9-A34F-8794BCD61555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C065-CAAC-42B0-ACDA-8E574095B325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8457-1CB3-47F0-ADE4-62AD4D29B2C2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872A-C6AC-4AAF-BFFB-3D2757508352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95a74"/>
                </a:solidFill>
                <a:latin typeface="Arial Black"/>
              </a:rPr>
              <a:t>Тема: Профессии. Труд людей.</a:t>
            </a:r>
            <a:br>
              <a:rPr sz="3200"/>
            </a:br>
            <a:endParaRPr b="0" lang="en-US" sz="32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19" name="Прямоугольник 3" descr=""/>
          <p:cNvPicPr/>
          <p:nvPr/>
        </p:nvPicPr>
        <p:blipFill>
          <a:blip r:embed="rId1"/>
          <a:stretch/>
        </p:blipFill>
        <p:spPr>
          <a:xfrm>
            <a:off x="841320" y="476280"/>
            <a:ext cx="8339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34960" y="2642760"/>
            <a:ext cx="7499520" cy="36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у точат, чтобы стала острее, человека учат, чтобы стал умне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469800"/>
            <a:ext cx="8521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3214800" y="1428840"/>
            <a:ext cx="3429000" cy="44114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4" descr=""/>
          <p:cNvPicPr/>
          <p:nvPr/>
        </p:nvPicPr>
        <p:blipFill>
          <a:blip r:embed="rId2"/>
          <a:stretch/>
        </p:blipFill>
        <p:spPr>
          <a:xfrm>
            <a:off x="3322800" y="109440"/>
            <a:ext cx="389556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6d19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то в дни болезней всех полезне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 лечит нас от всех болезне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689040" y="255600"/>
            <a:ext cx="8607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8480" y="3928680"/>
            <a:ext cx="725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 ты прочитал? 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 ты понимаешь эту пословицу?</a:t>
            </a: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4" name="Овал 3"/>
          <p:cNvSpPr/>
          <p:nvPr/>
        </p:nvSpPr>
        <p:spPr>
          <a:xfrm>
            <a:off x="1571760" y="1643040"/>
            <a:ext cx="100008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Овал 4"/>
          <p:cNvSpPr/>
          <p:nvPr/>
        </p:nvSpPr>
        <p:spPr>
          <a:xfrm>
            <a:off x="6286680" y="1714680"/>
            <a:ext cx="1071360" cy="84276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в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Овал 5"/>
          <p:cNvSpPr/>
          <p:nvPr/>
        </p:nvSpPr>
        <p:spPr>
          <a:xfrm>
            <a:off x="4929120" y="1714680"/>
            <a:ext cx="914400" cy="84276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Овал 6"/>
          <p:cNvSpPr/>
          <p:nvPr/>
        </p:nvSpPr>
        <p:spPr>
          <a:xfrm>
            <a:off x="3643200" y="1714680"/>
            <a:ext cx="843120" cy="84276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Овал 8"/>
          <p:cNvSpPr/>
          <p:nvPr/>
        </p:nvSpPr>
        <p:spPr>
          <a:xfrm>
            <a:off x="1928880" y="3000240"/>
            <a:ext cx="121428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рыб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Овал 9"/>
          <p:cNvSpPr/>
          <p:nvPr/>
        </p:nvSpPr>
        <p:spPr>
          <a:xfrm>
            <a:off x="4500720" y="3000240"/>
            <a:ext cx="100008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Овал 10"/>
          <p:cNvSpPr/>
          <p:nvPr/>
        </p:nvSpPr>
        <p:spPr>
          <a:xfrm>
            <a:off x="3000240" y="3000240"/>
            <a:ext cx="114300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к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Овал 11"/>
          <p:cNvSpPr/>
          <p:nvPr/>
        </p:nvSpPr>
        <p:spPr>
          <a:xfrm>
            <a:off x="5929200" y="3000240"/>
            <a:ext cx="92880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пр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Овал 12"/>
          <p:cNvSpPr/>
          <p:nvPr/>
        </p:nvSpPr>
        <p:spPr>
          <a:xfrm>
            <a:off x="6715080" y="3000240"/>
            <a:ext cx="100008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Овал 13"/>
          <p:cNvSpPr/>
          <p:nvPr/>
        </p:nvSpPr>
        <p:spPr>
          <a:xfrm>
            <a:off x="2857680" y="1714680"/>
            <a:ext cx="857160" cy="84276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тр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Овал 14"/>
          <p:cNvSpPr/>
          <p:nvPr/>
        </p:nvSpPr>
        <p:spPr>
          <a:xfrm>
            <a:off x="7215120" y="1714680"/>
            <a:ext cx="1428840" cy="84276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неш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Прямоугольник 15" descr=""/>
          <p:cNvPicPr/>
          <p:nvPr/>
        </p:nvPicPr>
        <p:blipFill>
          <a:blip r:embed="rId1"/>
          <a:stretch/>
        </p:blipFill>
        <p:spPr>
          <a:xfrm>
            <a:off x="1243080" y="219240"/>
            <a:ext cx="78516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Скругленный прямоугольник 13"/>
          <p:cNvSpPr/>
          <p:nvPr/>
        </p:nvSpPr>
        <p:spPr>
          <a:xfrm>
            <a:off x="1214280" y="3429000"/>
            <a:ext cx="162900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Я учус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Скругленный прямоугольник 14"/>
          <p:cNvSpPr/>
          <p:nvPr/>
        </p:nvSpPr>
        <p:spPr>
          <a:xfrm>
            <a:off x="3071880" y="1714680"/>
            <a:ext cx="15001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пе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Скругленный прямоугольник 15"/>
          <p:cNvSpPr/>
          <p:nvPr/>
        </p:nvSpPr>
        <p:spPr>
          <a:xfrm>
            <a:off x="3071880" y="2786040"/>
            <a:ext cx="15001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рисов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Скругленный прямоугольник 16"/>
          <p:cNvSpPr/>
          <p:nvPr/>
        </p:nvSpPr>
        <p:spPr>
          <a:xfrm>
            <a:off x="3071880" y="3857760"/>
            <a:ext cx="15001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пис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Скругленный прямоугольник 17"/>
          <p:cNvSpPr/>
          <p:nvPr/>
        </p:nvSpPr>
        <p:spPr>
          <a:xfrm>
            <a:off x="3071880" y="5000760"/>
            <a:ext cx="15001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счит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Скругленный прямоугольник 18"/>
          <p:cNvSpPr/>
          <p:nvPr/>
        </p:nvSpPr>
        <p:spPr>
          <a:xfrm>
            <a:off x="5143680" y="1714680"/>
            <a:ext cx="30715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на уроке математи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Скругленный прямоугольник 19"/>
          <p:cNvSpPr/>
          <p:nvPr/>
        </p:nvSpPr>
        <p:spPr>
          <a:xfrm>
            <a:off x="5143680" y="3857760"/>
            <a:ext cx="30715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на уроке рис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Скругленный прямоугольник 20"/>
          <p:cNvSpPr/>
          <p:nvPr/>
        </p:nvSpPr>
        <p:spPr>
          <a:xfrm>
            <a:off x="5143680" y="5000760"/>
            <a:ext cx="30715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на уроке музы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Скругленный прямоугольник 21"/>
          <p:cNvSpPr/>
          <p:nvPr/>
        </p:nvSpPr>
        <p:spPr>
          <a:xfrm>
            <a:off x="5143680" y="2786040"/>
            <a:ext cx="30715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на уроке граммати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Прямоугольник 11" descr=""/>
          <p:cNvPicPr/>
          <p:nvPr/>
        </p:nvPicPr>
        <p:blipFill>
          <a:blip r:embed="rId1"/>
          <a:stretch/>
        </p:blipFill>
        <p:spPr>
          <a:xfrm>
            <a:off x="1060560" y="79200"/>
            <a:ext cx="80769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профессию вы выберете, когда вырастет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го вы хотите быть похожим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Прямоугольник 3" descr=""/>
          <p:cNvPicPr/>
          <p:nvPr/>
        </p:nvPicPr>
        <p:blipFill>
          <a:blip r:embed="rId1"/>
          <a:stretch/>
        </p:blipFill>
        <p:spPr>
          <a:xfrm>
            <a:off x="2603520" y="109440"/>
            <a:ext cx="488304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 мы выясни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 уважением относитесь к людям, которые вас учат, лечат, перевозя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наете, какую трудную работу выполняют люди этих професс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Прямоугольник 3" descr=""/>
          <p:cNvPicPr/>
          <p:nvPr/>
        </p:nvPicPr>
        <p:blipFill>
          <a:blip r:embed="rId1"/>
          <a:stretch/>
        </p:blipFill>
        <p:spPr>
          <a:xfrm>
            <a:off x="2322360" y="42840"/>
            <a:ext cx="5158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85560" y="500040"/>
            <a:ext cx="761508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крепить представления учащихся о профессии учителя, водителя, врач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ррегировать речь учащихся путем составления предложений, ответов на вопрос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ррегировать логическое мышление путем отгадывания загадок, объяснения пословиц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ивать словарь, связную речь, грамматический и лексический материал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ывать у учащихся уважение к людям труда.</a:t>
            </a:r>
            <a:endParaRPr b="0" lang="en-US" sz="20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21" name="Прямоугольник 2" descr=""/>
          <p:cNvPicPr/>
          <p:nvPr/>
        </p:nvPicPr>
        <p:blipFill>
          <a:blip r:embed="rId1"/>
          <a:stretch/>
        </p:blipFill>
        <p:spPr>
          <a:xfrm>
            <a:off x="2322360" y="609480"/>
            <a:ext cx="348156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одит машину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лечит детей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шьет одежду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готовит еду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учит детей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очиняет музыку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грает в кино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6286680" y="3214800"/>
            <a:ext cx="1643040" cy="4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6d19"/>
                </a:solidFill>
                <a:latin typeface="Arial Black"/>
              </a:rPr>
              <a:t>шве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4"/>
          <p:cNvSpPr/>
          <p:nvPr/>
        </p:nvSpPr>
        <p:spPr>
          <a:xfrm>
            <a:off x="6286680" y="5572080"/>
            <a:ext cx="171432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актер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оугольник 5"/>
          <p:cNvSpPr/>
          <p:nvPr/>
        </p:nvSpPr>
        <p:spPr>
          <a:xfrm>
            <a:off x="6286680" y="2000160"/>
            <a:ext cx="164304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шофер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оугольник 6"/>
          <p:cNvSpPr/>
          <p:nvPr/>
        </p:nvSpPr>
        <p:spPr>
          <a:xfrm>
            <a:off x="6286680" y="2643120"/>
            <a:ext cx="164304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7"/>
          <p:cNvSpPr/>
          <p:nvPr/>
        </p:nvSpPr>
        <p:spPr>
          <a:xfrm>
            <a:off x="6286680" y="3857760"/>
            <a:ext cx="1643040" cy="4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повар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8"/>
          <p:cNvSpPr/>
          <p:nvPr/>
        </p:nvSpPr>
        <p:spPr>
          <a:xfrm>
            <a:off x="6286680" y="4429080"/>
            <a:ext cx="164304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оугольник 9"/>
          <p:cNvSpPr/>
          <p:nvPr/>
        </p:nvSpPr>
        <p:spPr>
          <a:xfrm>
            <a:off x="6286680" y="5000760"/>
            <a:ext cx="2000160" cy="4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композитор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Прямоугольник 12" descr=""/>
          <p:cNvPicPr/>
          <p:nvPr/>
        </p:nvPicPr>
        <p:blipFill>
          <a:blip r:embed="rId1"/>
          <a:stretch/>
        </p:blipFill>
        <p:spPr>
          <a:xfrm>
            <a:off x="1749600" y="255600"/>
            <a:ext cx="637056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434960" y="1447560"/>
            <a:ext cx="342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епель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тель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ель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ль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ль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ь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6357960" y="2643120"/>
            <a:ext cx="157176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писат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оугольник 4"/>
          <p:cNvSpPr/>
          <p:nvPr/>
        </p:nvSpPr>
        <p:spPr>
          <a:xfrm>
            <a:off x="6429240" y="3786120"/>
            <a:ext cx="1500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водит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оугольник 5"/>
          <p:cNvSpPr/>
          <p:nvPr/>
        </p:nvSpPr>
        <p:spPr>
          <a:xfrm>
            <a:off x="6357960" y="1571760"/>
            <a:ext cx="157176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Прямоугольник 6" descr=""/>
          <p:cNvPicPr/>
          <p:nvPr/>
        </p:nvPicPr>
        <p:blipFill>
          <a:blip r:embed="rId1"/>
          <a:stretch/>
        </p:blipFill>
        <p:spPr>
          <a:xfrm>
            <a:off x="2462040" y="182520"/>
            <a:ext cx="5426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d19"/>
                </a:solidFill>
                <a:latin typeface="Arial Black"/>
                <a:ea typeface="Times New Roman"/>
              </a:rPr>
              <a:t>Баран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шофер какой чудак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есть не мог ника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с спозаранк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утил-вертел баран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чем крутил-вертел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зял бы, да и съел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Прямоугольник 3" descr=""/>
          <p:cNvPicPr/>
          <p:nvPr/>
        </p:nvPicPr>
        <p:blipFill>
          <a:blip r:embed="rId1"/>
          <a:stretch/>
        </p:blipFill>
        <p:spPr>
          <a:xfrm>
            <a:off x="1835280" y="109440"/>
            <a:ext cx="705960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5334120" y="1857240"/>
            <a:ext cx="3809880" cy="3687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1071720" y="2000160"/>
            <a:ext cx="4071960" cy="371484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8" descr=""/>
          <p:cNvPicPr/>
          <p:nvPr/>
        </p:nvPicPr>
        <p:blipFill>
          <a:blip r:embed="rId3"/>
          <a:stretch/>
        </p:blipFill>
        <p:spPr>
          <a:xfrm>
            <a:off x="2114640" y="182520"/>
            <a:ext cx="60958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529000" y="1447920"/>
            <a:ext cx="531180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42" name="Прямоугольник 4" descr=""/>
          <p:cNvPicPr/>
          <p:nvPr/>
        </p:nvPicPr>
        <p:blipFill>
          <a:blip r:embed="rId2"/>
          <a:stretch/>
        </p:blipFill>
        <p:spPr>
          <a:xfrm>
            <a:off x="3322800" y="42840"/>
            <a:ext cx="38955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любит ласку, чистоту и смаз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у по работе воздается че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1"/>
          <a:stretch/>
        </p:blipFill>
        <p:spPr>
          <a:xfrm>
            <a:off x="1054080" y="92160"/>
            <a:ext cx="81392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286000" y="1500120"/>
            <a:ext cx="5737320" cy="4240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346" name="Прямоугольник 4" descr=""/>
          <p:cNvPicPr/>
          <p:nvPr/>
        </p:nvPicPr>
        <p:blipFill>
          <a:blip r:embed="rId2"/>
          <a:stretch/>
        </p:blipFill>
        <p:spPr>
          <a:xfrm>
            <a:off x="3322800" y="42840"/>
            <a:ext cx="38955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05:52:11Z</dcterms:created>
  <dc:creator>Белякевич Елена Александровна</dc:creator>
  <dc:description/>
  <dc:language>en-US</dc:language>
  <cp:lastModifiedBy>fry</cp:lastModifiedBy>
  <dcterms:modified xsi:type="dcterms:W3CDTF">2012-03-24T09:01:21Z</dcterms:modified>
  <cp:revision>55</cp:revision>
  <dc:subject/>
  <dc:title>Слайд 1</dc:title>
</cp:coreProperties>
</file>