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59A-3FC6-4E7E-86BB-71521093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09B-6514-4F2C-A83E-B4240790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E3C-A717-417B-98B3-CF210B62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64D-5BEF-4742-A65F-774E18EB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3798-70CD-46FC-AF28-E03EAD40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207F-EA82-435E-B245-6222CB15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1DC7-627E-449B-AE27-36EF75C6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FDC2-D56B-437F-A648-98C4E17F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0F10-3EA8-4898-BE1B-3D64658E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C427-2EF3-4525-9E08-2AC74D9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B96C-DB55-4BC5-BC41-C9A161B6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443-FAE2-4D92-BB17-F57FD189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89FB-2AEF-4082-B18B-3869C18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0B7D-5512-45A0-871E-4D299B22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3FC1-335B-4F2B-A06B-4062B257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2E09-2004-4F10-BA1A-98AC58CF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60BD-2197-40A9-BCA1-FB273EF6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63B-CE92-4F78-B8A8-D45A5F58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DDA-AC4F-4931-B370-FEF430FC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B45-DADB-47C5-8E2A-F66DD9F4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D34-7FFD-4DBA-9B11-5BD11754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35B-0945-4BCA-A777-29B17C3D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0BC-4DFD-4846-94F4-FE46208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E46-E28F-4692-A8D5-0B28CDB1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B37F-51D3-451F-9E1B-181CF3F8C9E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06C7-A0EB-4F7E-A071-8407BD65E74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79960" y="876960"/>
            <a:ext cx="8163360" cy="19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Моя будущая профессия.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рофессия сегодняшнего дня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рок изобразительного искусства в 6 класс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1640" y="6021000"/>
            <a:ext cx="4321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5" descr="http://im7-tub.yandex.net/i?id=55618065&amp;tov=7"/>
          <p:cNvPicPr/>
          <p:nvPr/>
        </p:nvPicPr>
        <p:blipFill>
          <a:blip r:embed="rId1"/>
          <a:stretch/>
        </p:blipFill>
        <p:spPr>
          <a:xfrm>
            <a:off x="6012000" y="3147840"/>
            <a:ext cx="1944720" cy="1452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246c86b6ae813a241963e9fd8a44cd5f"/>
          <p:cNvPicPr/>
          <p:nvPr/>
        </p:nvPicPr>
        <p:blipFill>
          <a:blip r:embed="rId2"/>
          <a:stretch/>
        </p:blipFill>
        <p:spPr>
          <a:xfrm>
            <a:off x="611280" y="2276640"/>
            <a:ext cx="283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Кузнец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2" descr="C:\Documents and Settings\user\Рабочий стол\649_resolution_320x480_649_Midgard_2.jpg"/>
          <p:cNvPicPr/>
          <p:nvPr/>
        </p:nvPicPr>
        <p:blipFill>
          <a:blip r:embed="rId1"/>
          <a:stretch/>
        </p:blipFill>
        <p:spPr>
          <a:xfrm>
            <a:off x="2124000" y="2349360"/>
            <a:ext cx="4608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Гончар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3" descr="C:\Documents and Settings\user\Рабочий стол\umet_2.jpg"/>
          <p:cNvPicPr/>
          <p:nvPr/>
        </p:nvPicPr>
        <p:blipFill>
          <a:blip r:embed="rId1"/>
          <a:stretch/>
        </p:blipFill>
        <p:spPr>
          <a:xfrm>
            <a:off x="2916360" y="2362320"/>
            <a:ext cx="388764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stock-photo-industrial-workers-people-isolated-over-white-background-31692862"/>
          <p:cNvPicPr/>
          <p:nvPr/>
        </p:nvPicPr>
        <p:blipFill>
          <a:blip r:embed="rId1"/>
          <a:stretch/>
        </p:blipFill>
        <p:spPr>
          <a:xfrm>
            <a:off x="900000" y="2637000"/>
            <a:ext cx="2881440" cy="2778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фессии сегодняшнего дня.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ие они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76720" y="2361960"/>
            <a:ext cx="5254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тарину всякое ремесло называлось художеством. Делающий нужные и красивые вещи : дома, мебель, автомобили, корабли, одежду, материю, платье и т. д. тоже худож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идеть искусство в любой человеческой деятельности – главная цель, которая стоит      перед вами на сегодняшнем уро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ую профессию выбрать?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мне интересно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116000" y="270828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971640" y="280044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 какой профессии вы мечтает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ем хотите стат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22" descr="0121_enl"/>
          <p:cNvPicPr/>
          <p:nvPr/>
        </p:nvPicPr>
        <p:blipFill>
          <a:blip r:embed="rId1"/>
          <a:stretch/>
        </p:blipFill>
        <p:spPr>
          <a:xfrm>
            <a:off x="7164360" y="2421000"/>
            <a:ext cx="1496880" cy="126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gruppa1-22006"/>
          <p:cNvPicPr/>
          <p:nvPr/>
        </p:nvPicPr>
        <p:blipFill>
          <a:blip r:embed="rId2"/>
          <a:stretch/>
        </p:blipFill>
        <p:spPr>
          <a:xfrm>
            <a:off x="4932360" y="2421000"/>
            <a:ext cx="1728720" cy="13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92709----"/>
          <p:cNvPicPr/>
          <p:nvPr/>
        </p:nvPicPr>
        <p:blipFill>
          <a:blip r:embed="rId3"/>
          <a:stretch/>
        </p:blipFill>
        <p:spPr>
          <a:xfrm>
            <a:off x="6877080" y="3500280"/>
            <a:ext cx="2106720" cy="178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credit1"/>
          <p:cNvPicPr/>
          <p:nvPr/>
        </p:nvPicPr>
        <p:blipFill>
          <a:blip r:embed="rId4"/>
          <a:stretch/>
        </p:blipFill>
        <p:spPr>
          <a:xfrm>
            <a:off x="4788000" y="3933720"/>
            <a:ext cx="1800000" cy="1209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141"/>
          <p:cNvPicPr/>
          <p:nvPr/>
        </p:nvPicPr>
        <p:blipFill>
          <a:blip r:embed="rId5"/>
          <a:stretch/>
        </p:blipFill>
        <p:spPr>
          <a:xfrm>
            <a:off x="3851280" y="5229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Reporter_w=mic_copy"/>
          <p:cNvPicPr/>
          <p:nvPr/>
        </p:nvPicPr>
        <p:blipFill>
          <a:blip r:embed="rId6"/>
          <a:stretch/>
        </p:blipFill>
        <p:spPr>
          <a:xfrm>
            <a:off x="6877080" y="5013360"/>
            <a:ext cx="2016000" cy="153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est-1_B"/>
          <p:cNvPicPr/>
          <p:nvPr/>
        </p:nvPicPr>
        <p:blipFill>
          <a:blip r:embed="rId7"/>
          <a:stretch/>
        </p:blipFill>
        <p:spPr>
          <a:xfrm>
            <a:off x="1476360" y="465300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4846_1"/>
          <p:cNvPicPr/>
          <p:nvPr/>
        </p:nvPicPr>
        <p:blipFill>
          <a:blip r:embed="rId8"/>
          <a:stretch/>
        </p:blipFill>
        <p:spPr>
          <a:xfrm>
            <a:off x="7236000" y="260280"/>
            <a:ext cx="109692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ворческие професс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3662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еще творческие профессии вы знает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м они интересн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Balanchin"/>
          <p:cNvPicPr/>
          <p:nvPr/>
        </p:nvPicPr>
        <p:blipFill>
          <a:blip r:embed="rId1"/>
          <a:stretch/>
        </p:blipFill>
        <p:spPr>
          <a:xfrm>
            <a:off x="6732720" y="4581360"/>
            <a:ext cx="1979640" cy="173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im"/>
          <p:cNvPicPr/>
          <p:nvPr/>
        </p:nvPicPr>
        <p:blipFill>
          <a:blip r:embed="rId2"/>
          <a:stretch/>
        </p:blipFill>
        <p:spPr>
          <a:xfrm>
            <a:off x="7308720" y="2492280"/>
            <a:ext cx="1219320" cy="177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"/>
          <p:cNvPicPr/>
          <p:nvPr/>
        </p:nvPicPr>
        <p:blipFill>
          <a:blip r:embed="rId3"/>
          <a:stretch/>
        </p:blipFill>
        <p:spPr>
          <a:xfrm>
            <a:off x="1187280" y="5373720"/>
            <a:ext cx="1428840" cy="87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0ed7d4047c4656456456"/>
          <p:cNvPicPr/>
          <p:nvPr/>
        </p:nvPicPr>
        <p:blipFill>
          <a:blip r:embed="rId4"/>
          <a:stretch/>
        </p:blipFill>
        <p:spPr>
          <a:xfrm>
            <a:off x="4284720" y="242100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all-that-jazzy"/>
          <p:cNvPicPr/>
          <p:nvPr/>
        </p:nvPicPr>
        <p:blipFill>
          <a:blip r:embed="rId5"/>
          <a:stretch/>
        </p:blipFill>
        <p:spPr>
          <a:xfrm>
            <a:off x="3708360" y="4581360"/>
            <a:ext cx="2557440" cy="1775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0ed7d4047c4656456456"/>
          <p:cNvPicPr/>
          <p:nvPr/>
        </p:nvPicPr>
        <p:blipFill>
          <a:blip r:embed="rId6"/>
          <a:stretch/>
        </p:blipFill>
        <p:spPr>
          <a:xfrm>
            <a:off x="4284720" y="2492280"/>
            <a:ext cx="2305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Режиссёр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2" descr="C:\Documents and Settings\user\Рабочий стол\f_7490271.jpg"/>
          <p:cNvPicPr/>
          <p:nvPr/>
        </p:nvPicPr>
        <p:blipFill>
          <a:blip r:embed="rId1"/>
          <a:stretch/>
        </p:blipFill>
        <p:spPr>
          <a:xfrm>
            <a:off x="1692360" y="2362320"/>
            <a:ext cx="611964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Строители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2" descr="C:\Documents and Settings\user\Рабочий стол\1281703169_1281701488_stroitel.jpg"/>
          <p:cNvPicPr/>
          <p:nvPr/>
        </p:nvPicPr>
        <p:blipFill>
          <a:blip r:embed="rId1"/>
          <a:stretch/>
        </p:blipFill>
        <p:spPr>
          <a:xfrm>
            <a:off x="2124000" y="2421000"/>
            <a:ext cx="5616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Дирижёр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2" descr="C:\Documents and Settings\user\Рабочий стол\2501.jpg"/>
          <p:cNvPicPr/>
          <p:nvPr/>
        </p:nvPicPr>
        <p:blipFill>
          <a:blip r:embed="rId1"/>
          <a:stretch/>
        </p:blipFill>
        <p:spPr>
          <a:xfrm>
            <a:off x="2987640" y="2362320"/>
            <a:ext cx="37450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Дизайнер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3" descr="C:\Documents and Settings\user\Рабочий стол\02.jpg"/>
          <p:cNvPicPr/>
          <p:nvPr/>
        </p:nvPicPr>
        <p:blipFill>
          <a:blip r:embed="rId1"/>
          <a:stretch/>
        </p:blipFill>
        <p:spPr>
          <a:xfrm>
            <a:off x="1979640" y="2362320"/>
            <a:ext cx="6048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Музыкант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2" descr="C:\Documents and Settings\user\Рабочий стол\110909arfa3.jpg"/>
          <p:cNvPicPr/>
          <p:nvPr/>
        </p:nvPicPr>
        <p:blipFill>
          <a:blip r:embed="rId1"/>
          <a:stretch/>
        </p:blipFill>
        <p:spPr>
          <a:xfrm>
            <a:off x="2050920" y="2492280"/>
            <a:ext cx="6481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Древние професси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древности тоже существовало множество разных професс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вайте подумаем и вспомним и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Научный работни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2" descr="C:\Documents and Settings\user\Рабочий стол\image589629.jpg"/>
          <p:cNvPicPr/>
          <p:nvPr/>
        </p:nvPicPr>
        <p:blipFill>
          <a:blip r:embed="rId1"/>
          <a:stretch/>
        </p:blipFill>
        <p:spPr>
          <a:xfrm>
            <a:off x="1547640" y="249228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Танцор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2" descr="C:\Documents and Settings\user\Рабочий стол\994650.913962.jpeg"/>
          <p:cNvPicPr/>
          <p:nvPr/>
        </p:nvPicPr>
        <p:blipFill>
          <a:blip r:embed="rId1"/>
          <a:stretch/>
        </p:blipFill>
        <p:spPr>
          <a:xfrm>
            <a:off x="1763640" y="2362320"/>
            <a:ext cx="59770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Стилист - визажис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2" descr="C:\Documents and Settings\user\Рабочий стол\vizag.JPG"/>
          <p:cNvPicPr/>
          <p:nvPr/>
        </p:nvPicPr>
        <p:blipFill>
          <a:blip r:embed="rId1"/>
          <a:stretch/>
        </p:blipFill>
        <p:spPr>
          <a:xfrm>
            <a:off x="1890720" y="2362320"/>
            <a:ext cx="5586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Парикмахер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4" descr="C:\Documents and Settings\user\Рабочий стол\fen1.jpg"/>
          <p:cNvPicPr/>
          <p:nvPr/>
        </p:nvPicPr>
        <p:blipFill>
          <a:blip r:embed="rId1"/>
          <a:stretch/>
        </p:blipFill>
        <p:spPr>
          <a:xfrm>
            <a:off x="1908000" y="2492280"/>
            <a:ext cx="6551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Повар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4" descr="C:\Documents and Settings\user\Рабочий стол\77.jpg"/>
          <p:cNvPicPr/>
          <p:nvPr/>
        </p:nvPicPr>
        <p:blipFill>
          <a:blip r:embed="rId1"/>
          <a:stretch/>
        </p:blipFill>
        <p:spPr>
          <a:xfrm>
            <a:off x="1763640" y="256536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Композитор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Picture 8" descr="0ed7d4047c4656456456"/>
          <p:cNvPicPr/>
          <p:nvPr/>
        </p:nvPicPr>
        <p:blipFill>
          <a:blip r:embed="rId1"/>
          <a:stretch/>
        </p:blipFill>
        <p:spPr>
          <a:xfrm>
            <a:off x="1763640" y="2421000"/>
            <a:ext cx="5545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Художник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4" descr="C:\Documents and Settings\user\Рабочий стол\141.jpg"/>
          <p:cNvPicPr/>
          <p:nvPr/>
        </p:nvPicPr>
        <p:blipFill>
          <a:blip r:embed="rId1"/>
          <a:stretch/>
        </p:blipFill>
        <p:spPr>
          <a:xfrm>
            <a:off x="1763640" y="2349360"/>
            <a:ext cx="6048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Певец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Picture 5" descr="C:\Documents and Settings\user\Рабочий стол\pic_8474.jpg"/>
          <p:cNvPicPr/>
          <p:nvPr/>
        </p:nvPicPr>
        <p:blipFill>
          <a:blip r:embed="rId1"/>
          <a:stretch/>
        </p:blipFill>
        <p:spPr>
          <a:xfrm>
            <a:off x="1908000" y="2362320"/>
            <a:ext cx="61200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Актёр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Picture 2" descr="C:\Documents and Settings\user\Рабочий стол\birga.jpg"/>
          <p:cNvPicPr/>
          <p:nvPr/>
        </p:nvPicPr>
        <p:blipFill>
          <a:blip r:embed="rId1"/>
          <a:stretch/>
        </p:blipFill>
        <p:spPr>
          <a:xfrm>
            <a:off x="2941560" y="2565360"/>
            <a:ext cx="3486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Артист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2" descr="C:\Documents and Settings\user\Рабочий стол\10_1.jpg"/>
          <p:cNvPicPr/>
          <p:nvPr/>
        </p:nvPicPr>
        <p:blipFill>
          <a:blip r:embed="rId1"/>
          <a:stretch/>
        </p:blipFill>
        <p:spPr>
          <a:xfrm>
            <a:off x="2484360" y="2362320"/>
            <a:ext cx="43912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Пахарь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2" descr="C:\Documents and Settings\user\Рабочий стол\ris234.jpg"/>
          <p:cNvPicPr/>
          <p:nvPr/>
        </p:nvPicPr>
        <p:blipFill>
          <a:blip r:embed="rId1"/>
          <a:stretch/>
        </p:blipFill>
        <p:spPr>
          <a:xfrm>
            <a:off x="1332000" y="2349360"/>
            <a:ext cx="6696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17360" y="1098000"/>
            <a:ext cx="7257960" cy="458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Во все времена художники изображали труд людей.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8080" y="836640"/>
            <a:ext cx="76932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Picture 4" descr="кузница"/>
          <p:cNvPicPr/>
          <p:nvPr/>
        </p:nvPicPr>
        <p:blipFill>
          <a:blip r:embed="rId1"/>
          <a:stretch/>
        </p:blipFill>
        <p:spPr>
          <a:xfrm>
            <a:off x="1042920" y="2444760"/>
            <a:ext cx="4473720" cy="41083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5651640" y="2781360"/>
            <a:ext cx="3492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занова Ольга Владимировн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зниц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N 160035)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101960" y="1111680"/>
            <a:ext cx="79822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3635280" y="2492280"/>
            <a:ext cx="5151600" cy="42004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2"/>
          <p:cNvSpPr/>
          <p:nvPr/>
        </p:nvSpPr>
        <p:spPr>
          <a:xfrm>
            <a:off x="2124000" y="60213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(N 109929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826920" y="2924280"/>
            <a:ext cx="27370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еребрякова Зинаида Евгеньевна.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Беление холс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екоративно-монументальное панно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57880" y="429120"/>
            <a:ext cx="7939440" cy="131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1" name="Picture 4" descr="Kramskoi_Shishkin "/>
          <p:cNvPicPr/>
          <p:nvPr/>
        </p:nvPicPr>
        <p:blipFill>
          <a:blip r:embed="rId1"/>
          <a:stretch/>
        </p:blipFill>
        <p:spPr>
          <a:xfrm>
            <a:off x="6948360" y="2492280"/>
            <a:ext cx="187344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Korovin_Dyagilev"/>
          <p:cNvPicPr/>
          <p:nvPr/>
        </p:nvPicPr>
        <p:blipFill>
          <a:blip r:embed="rId2"/>
          <a:stretch/>
        </p:blipFill>
        <p:spPr>
          <a:xfrm>
            <a:off x="1116000" y="2492280"/>
            <a:ext cx="3166920" cy="2702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Dega_Blue_dancers"/>
          <p:cNvPicPr/>
          <p:nvPr/>
        </p:nvPicPr>
        <p:blipFill>
          <a:blip r:embed="rId3"/>
          <a:stretch/>
        </p:blipFill>
        <p:spPr>
          <a:xfrm>
            <a:off x="4446720" y="4005360"/>
            <a:ext cx="2357280" cy="2590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387800" y="532116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ров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Дягиле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7146720" y="539280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рамско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Шишкин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4624560" y="314172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лер-Жермен-Эдгар Дег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preview"/>
          <p:cNvPicPr/>
          <p:nvPr/>
        </p:nvPicPr>
        <p:blipFill>
          <a:blip r:embed="rId1"/>
          <a:stretch/>
        </p:blipFill>
        <p:spPr>
          <a:xfrm>
            <a:off x="3276720" y="3068640"/>
            <a:ext cx="164448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preview"/>
          <p:cNvPicPr/>
          <p:nvPr/>
        </p:nvPicPr>
        <p:blipFill>
          <a:blip r:embed="rId2"/>
          <a:stretch/>
        </p:blipFill>
        <p:spPr>
          <a:xfrm>
            <a:off x="971640" y="3068640"/>
            <a:ext cx="1493640" cy="1873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3"/>
          <p:cNvSpPr/>
          <p:nvPr/>
        </p:nvSpPr>
        <p:spPr>
          <a:xfrm>
            <a:off x="900000" y="5084640"/>
            <a:ext cx="2035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Белоусов Ф.В.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Ударник труда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(N 176998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2771640" y="5229360"/>
            <a:ext cx="23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Венецианов  Алексей Гаврилович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Жнецы 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(N 160007)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16" descr=""/>
          <p:cNvPicPr/>
          <p:nvPr/>
        </p:nvPicPr>
        <p:blipFill>
          <a:blip r:embed="rId3"/>
          <a:stretch/>
        </p:blipFill>
        <p:spPr>
          <a:xfrm>
            <a:off x="5435640" y="2565360"/>
            <a:ext cx="3319560" cy="24289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7"/>
          <p:cNvSpPr/>
          <p:nvPr/>
        </p:nvSpPr>
        <p:spPr>
          <a:xfrm>
            <a:off x="5775480" y="5084640"/>
            <a:ext cx="2684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Венецианов Алексей Гаврилович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 пашне. Весна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(N 109912)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307680" y="364320"/>
            <a:ext cx="5731560" cy="143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убофутуристическая манера письма художников.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59280" y="2349000"/>
            <a:ext cx="374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левич Казимир Северинович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виатор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N 160289)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пова Любовь Сергеевна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ртрет философа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N 160124)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12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1933560" cy="3861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preview"/>
          <p:cNvPicPr/>
          <p:nvPr/>
        </p:nvPicPr>
        <p:blipFill>
          <a:blip r:embed="rId2"/>
          <a:stretch/>
        </p:blipFill>
        <p:spPr>
          <a:xfrm>
            <a:off x="6915240" y="4292640"/>
            <a:ext cx="15429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ктическо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19280" y="2565000"/>
            <a:ext cx="64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думайте тему своей рабо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полните  эскиз компози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разите в эскизе профессию главных персонажей через среду, в которой они находя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450080" y="234000"/>
            <a:ext cx="7687800" cy="16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Давайте вспомним как         правильно изображать человека в движен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0" name="Picture 2" descr="C:\Documents and Settings\user\Рабочий стол\1281965977_skanirovanie0003.jpg"/>
          <p:cNvPicPr/>
          <p:nvPr/>
        </p:nvPicPr>
        <p:blipFill>
          <a:blip r:embed="rId1"/>
          <a:stretch/>
        </p:blipFill>
        <p:spPr>
          <a:xfrm>
            <a:off x="1042920" y="2363760"/>
            <a:ext cx="6985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точники информаци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47280" y="2421000"/>
            <a:ext cx="381636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539640" y="2313000"/>
            <a:ext cx="83534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омпакт- диски «Мировая художественная культура» (библиотека наглядных пособий 10-11 класс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chool-collection.edu.ru 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edu.ru/db/portal/sites/res_page.htm 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Ресурсы Единой коллекции ЦОР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еребрякова Зинаида Евгеньевна. Беление холс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екоративно-монументальное панно (N 109929)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озанова Ольга Владимировна  «Кузница» (N 160035)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Белоусов Ф.В. Ударник труда  (N 176998)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Малевич Казимир Северинович  «Авиатор»(N 160289)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пова Любовь Сергеевна « Портрет философа» (N 160124),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енецианов  Алексей Гаврилович Жнецы  (N 160007),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На пашне. Весна (N 109912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ttp://www.chemk.org/abiturient/index.php?menu=professii&amp;submenu=363&amp;submenu_title=Парикмахер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зажист _ http://www.allastudio.com/index/kurs_grimjor_tv/0-19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окарь - http://plazma.summatech.ru:28080/energomash/news/contest_the_best/?searchterm=No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Художник - www.bildweb.ru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евец -  http://kinofilms.tv/film/ves-etot-dzhaz/7329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им Брейтбург – композитор http://www.starstory.ru/?action=DAObjectListByReqObject13&amp;News=317&amp;NewsCategory=768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Гребцы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3" descr="C:\Documents and Settings\user\Рабочий стол\4ed6cc9b4b8ac.jpg"/>
          <p:cNvPicPr/>
          <p:nvPr/>
        </p:nvPicPr>
        <p:blipFill>
          <a:blip r:embed="rId1"/>
          <a:stretch/>
        </p:blipFill>
        <p:spPr>
          <a:xfrm>
            <a:off x="1187280" y="2368440"/>
            <a:ext cx="71298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юди которые пробовали пищу приготовленную император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Picture 2" descr="C:\Documents and Settings\user\Рабочий стол\4ed6cc9ad4abe.jpg"/>
          <p:cNvPicPr/>
          <p:nvPr/>
        </p:nvPicPr>
        <p:blipFill>
          <a:blip r:embed="rId1"/>
          <a:stretch/>
        </p:blipFill>
        <p:spPr>
          <a:xfrm>
            <a:off x="1547640" y="2349360"/>
            <a:ext cx="6553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Винодел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Picture 2" descr="C:\Documents and Settings\user\Рабочий стол\4ed6cc9a58223.jpg"/>
          <p:cNvPicPr/>
          <p:nvPr/>
        </p:nvPicPr>
        <p:blipFill>
          <a:blip r:embed="rId1"/>
          <a:stretch/>
        </p:blipFill>
        <p:spPr>
          <a:xfrm>
            <a:off x="1692360" y="2362320"/>
            <a:ext cx="655164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Палач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2" descr="C:\Documents and Settings\user\Рабочий стол\0_2846c_ee4cb0f0_XL.jpg"/>
          <p:cNvPicPr/>
          <p:nvPr/>
        </p:nvPicPr>
        <p:blipFill>
          <a:blip r:embed="rId1"/>
          <a:stretch/>
        </p:blipFill>
        <p:spPr>
          <a:xfrm>
            <a:off x="2916360" y="2362320"/>
            <a:ext cx="33112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Зубной врач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2" descr="C:\Documents and Settings\user\Рабочий стол\1322145468_6.jpg"/>
          <p:cNvPicPr/>
          <p:nvPr/>
        </p:nvPicPr>
        <p:blipFill>
          <a:blip r:embed="rId1"/>
          <a:stretch/>
        </p:blipFill>
        <p:spPr>
          <a:xfrm>
            <a:off x="1332000" y="2362320"/>
            <a:ext cx="64087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Актёр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3" descr="C:\Documents and Settings\user\Рабочий стол\1316244692_drevneishaya.professiya.v.mire.avi_001594079.jpg"/>
          <p:cNvPicPr/>
          <p:nvPr/>
        </p:nvPicPr>
        <p:blipFill>
          <a:blip r:embed="rId1"/>
          <a:stretch/>
        </p:blipFill>
        <p:spPr>
          <a:xfrm>
            <a:off x="1403280" y="2362320"/>
            <a:ext cx="69850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5:50:40Z</dcterms:created>
  <dc:creator>User</dc:creator>
  <dc:description/>
  <dc:language>en-US</dc:language>
  <cp:lastModifiedBy>USER</cp:lastModifiedBy>
  <dcterms:modified xsi:type="dcterms:W3CDTF">2012-04-11T17:21:13Z</dcterms:modified>
  <cp:revision>27</cp:revision>
  <dc:subject/>
  <dc:title>Моя будущая профессия. Профессия сегодняшнего дня.</dc:title>
</cp:coreProperties>
</file>