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8E3-46DA-46C4-A9AC-44ED5F22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B42-3F56-41CA-A320-B69788AD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012-F0FB-4BEC-9570-66FEF55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913-86E9-4B19-B350-C9AD674F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6460-0035-4671-A212-87B39181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D4B4-5D4C-44E2-B305-0DE9282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D2B4-5B13-4E92-9547-0E56B0CE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936-D61A-4DF9-ABAA-D9DB95B6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BA4C-0762-4804-8CCB-D7AB71DD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61F-8BD3-494F-A8AF-FCBC9EE1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CD3-02D1-4C00-91CC-5786675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940-53B7-499E-A8CB-82C4903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8700-20E9-4060-A93C-AF0A8E4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4A20-ACFD-4A1E-B9A0-9343F72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B3C-1829-4F67-89B6-80E96ACC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FC58-F7A6-408F-8411-50D210EC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4BE-049B-494D-BBDB-52A8EECC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11A-9469-4B5C-B2D7-E0C6C3B4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74A-2F9F-46B2-9BFF-901D326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36B-5AF0-40D7-AC69-D650861A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F16-5459-460F-9DE3-2FCFBFB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EFE-CFC0-4771-BF4D-1B0D857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5B9-4408-4106-9C21-6997684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370-0EA0-4E68-BDB8-6FEA7F83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7E6-0544-4E59-84E4-1EE0813A8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5FBF-3D25-4EAD-A17E-C400A26A9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«Марина Цветаева-любовь и боль моя…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итературная компози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Сергей Эфрон и Марина Цветаева незадолго до свадьбы. 1911 год.</a:t>
            </a:r>
            <a:r>
              <a:rPr b="0" lang="en-US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1400"/>
            </a:b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5" descr="foto"/>
          <p:cNvPicPr/>
          <p:nvPr/>
        </p:nvPicPr>
        <p:blipFill>
          <a:blip r:embed="rId1"/>
          <a:stretch/>
        </p:blipFill>
        <p:spPr>
          <a:xfrm>
            <a:off x="826920" y="1773360"/>
            <a:ext cx="2638440" cy="3333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oto"/>
          <p:cNvPicPr/>
          <p:nvPr/>
        </p:nvPicPr>
        <p:blipFill>
          <a:blip r:embed="rId2"/>
          <a:stretch/>
        </p:blipFill>
        <p:spPr>
          <a:xfrm>
            <a:off x="3995640" y="2349360"/>
            <a:ext cx="3905280" cy="333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43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1912 году 27 января состоялось венчание Марины Цветаевой и Сергея Эфрона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619272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9 февраля. Новобрачные уехали в свадебное путешествие: Италия, Франция, Гер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foto"/>
          <p:cNvPicPr/>
          <p:nvPr/>
        </p:nvPicPr>
        <p:blipFill>
          <a:blip r:embed="rId1"/>
          <a:stretch/>
        </p:blipFill>
        <p:spPr>
          <a:xfrm>
            <a:off x="6516720" y="2708280"/>
            <a:ext cx="2066760" cy="3333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7 января 1912 года свадьба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Сергея Эфрона и Марины Цветаевой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912 год - сборник стихов «Волшебный фонарь», посвященный мужу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5" descr="семья"/>
          <p:cNvPicPr/>
          <p:nvPr/>
        </p:nvPicPr>
        <p:blipFill>
          <a:blip r:embed="rId1"/>
          <a:stretch/>
        </p:blipFill>
        <p:spPr>
          <a:xfrm>
            <a:off x="1692360" y="2276640"/>
            <a:ext cx="5900760" cy="4243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дина не есть условность территории, а непреложность памяти и крови. Не быть в России, забыть Россию может бояться лишь тот, кто мыслит Россию вне себя. В ком она внутри- тот потеряет её лишь вместе с жизн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арина в послевоенные годы (1917-1920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8" descr="ЦВ1925Париж"/>
          <p:cNvPicPr/>
          <p:nvPr/>
        </p:nvPicPr>
        <p:blipFill>
          <a:blip r:embed="rId1"/>
          <a:stretch/>
        </p:blipFill>
        <p:spPr>
          <a:xfrm>
            <a:off x="2050920" y="1628640"/>
            <a:ext cx="4659480" cy="3105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1187280" y="501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 Я вся закутана в печаль. Я живу печалью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56000" y="602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нига «Разлу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оды эмиграции (1922-1939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50920" y="3645000"/>
            <a:ext cx="3960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«Поэма Горы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«Поэма Кон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Цикл сти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«Стихи Пушкин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за - «Дом у старого Пимена», «Сказка мате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СынГеоргийМЦ"/>
          <p:cNvPicPr/>
          <p:nvPr/>
        </p:nvPicPr>
        <p:blipFill>
          <a:blip r:embed="rId1"/>
          <a:stretch/>
        </p:blipFill>
        <p:spPr>
          <a:xfrm>
            <a:off x="755640" y="1052640"/>
            <a:ext cx="3629160" cy="2419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ЦВисын"/>
          <p:cNvPicPr/>
          <p:nvPr/>
        </p:nvPicPr>
        <p:blipFill>
          <a:blip r:embed="rId2"/>
          <a:stretch/>
        </p:blipFill>
        <p:spPr>
          <a:xfrm>
            <a:off x="4356000" y="3645000"/>
            <a:ext cx="45388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Ариадна1930"/>
          <p:cNvPicPr/>
          <p:nvPr/>
        </p:nvPicPr>
        <p:blipFill>
          <a:blip r:embed="rId1"/>
          <a:stretch/>
        </p:blipFill>
        <p:spPr>
          <a:xfrm>
            <a:off x="3979800" y="1557360"/>
            <a:ext cx="5164200" cy="3441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ЦВ1924Прагас дочерью"/>
          <p:cNvPicPr/>
          <p:nvPr/>
        </p:nvPicPr>
        <p:blipFill>
          <a:blip r:embed="rId2"/>
          <a:stretch/>
        </p:blipFill>
        <p:spPr>
          <a:xfrm>
            <a:off x="0" y="3703680"/>
            <a:ext cx="4730760" cy="31543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179280" y="3284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Праге с дочерью в 1924 г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5580000" y="537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риадна 1930 год (18 л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ЦВ1916сАриадной"/>
          <p:cNvPicPr/>
          <p:nvPr/>
        </p:nvPicPr>
        <p:blipFill>
          <a:blip r:embed="rId3"/>
          <a:stretch/>
        </p:blipFill>
        <p:spPr>
          <a:xfrm>
            <a:off x="0" y="0"/>
            <a:ext cx="4422600" cy="2948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450072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 Ариадной в 1916 г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пания в крови. И Чехия в слез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казываюсь бы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бедламе нелюдей отказываюсь жи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 волками площадей отказываюсь выть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йте одно, что и там я буду с преследуемыми, а не с преследователями, с жертвами, а не с палач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410080" cy="122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Марина Цветаева за рояле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95640" y="0"/>
            <a:ext cx="309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ина Цветаева и музыка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, ждущая своего исследовате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ина занималась музыкой лет с шести. С семи уже выступала в школьных концертах в Москве, в частной музыкальной школе в Мерзляковском переулк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ле смерти матери, пианистки выдающегося таланта, ученицы Рубинштейна, в 1906 году занятия музыкой прекратились. Но знание музыки, ее понимание, создание музыки словесной - сохранились на всю жизнь. Разве мог бы написать такого "Крысолова" поэт, чуждый музыке?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foto"/>
          <p:cNvPicPr/>
          <p:nvPr/>
        </p:nvPicPr>
        <p:blipFill>
          <a:blip r:embed="rId1"/>
          <a:stretch/>
        </p:blipFill>
        <p:spPr>
          <a:xfrm>
            <a:off x="468360" y="1989000"/>
            <a:ext cx="5472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6.09.1892-31.08.194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стыдись, страна Россия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нгелы- всегда босые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ва на миру у меня враг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ва близнеца неразрывно слитых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лод голодных- и сытость сытых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Ягоды рябины фото"/>
          <p:cNvPicPr/>
          <p:nvPr/>
        </p:nvPicPr>
        <p:blipFill>
          <a:blip r:embed="rId1"/>
          <a:stretch/>
        </p:blipFill>
        <p:spPr>
          <a:xfrm>
            <a:off x="6227640" y="1341360"/>
            <a:ext cx="252108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озвращение на Родину 1939 год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9" descr="ЦВ1941"/>
          <p:cNvPicPr/>
          <p:nvPr/>
        </p:nvPicPr>
        <p:blipFill>
          <a:blip r:embed="rId1"/>
          <a:stretch/>
        </p:blipFill>
        <p:spPr>
          <a:xfrm>
            <a:off x="755640" y="1484280"/>
            <a:ext cx="3270240" cy="4457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4319640" y="1628640"/>
            <a:ext cx="482436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стреча с читающей Россией не состояла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без страданий жизнь поэ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что без бури оке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 августа 1941 года Марина Цветаева ушла из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Ответ один – отказ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0" y="260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ночь с 27-го на 28-е августа 1939 года была арестована Ариадна Эфрон. Она провела в лагерях и в ссылках в общей сложности неполных 17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Эфрон1930"/>
          <p:cNvPicPr/>
          <p:nvPr/>
        </p:nvPicPr>
        <p:blipFill>
          <a:blip r:embed="rId1"/>
          <a:stretch/>
        </p:blipFill>
        <p:spPr>
          <a:xfrm>
            <a:off x="4500720" y="3716280"/>
            <a:ext cx="4356000" cy="2905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Эфрони Ариадна"/>
          <p:cNvPicPr/>
          <p:nvPr/>
        </p:nvPicPr>
        <p:blipFill>
          <a:blip r:embed="rId2"/>
          <a:stretch/>
        </p:blipFill>
        <p:spPr>
          <a:xfrm>
            <a:off x="324000" y="1700280"/>
            <a:ext cx="3520800" cy="2347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4788000" y="242100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ябрь 1939-го год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ест Сергея Эфр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68720" y="5659560"/>
            <a:ext cx="36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ергей Эфрон расстре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4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foto"/>
          <p:cNvPicPr/>
          <p:nvPr/>
        </p:nvPicPr>
        <p:blipFill>
          <a:blip r:embed="rId1"/>
          <a:stretch/>
        </p:blipFill>
        <p:spPr>
          <a:xfrm>
            <a:off x="539640" y="1197000"/>
            <a:ext cx="2476440" cy="333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foto"/>
          <p:cNvPicPr/>
          <p:nvPr/>
        </p:nvPicPr>
        <p:blipFill>
          <a:blip r:embed="rId2"/>
          <a:stretch/>
        </p:blipFill>
        <p:spPr>
          <a:xfrm>
            <a:off x="3492360" y="2421000"/>
            <a:ext cx="2086200" cy="333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foto"/>
          <p:cNvPicPr/>
          <p:nvPr/>
        </p:nvPicPr>
        <p:blipFill>
          <a:blip r:embed="rId3"/>
          <a:stretch/>
        </p:blipFill>
        <p:spPr>
          <a:xfrm>
            <a:off x="6156360" y="3141720"/>
            <a:ext cx="223848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отоальбом Марины Цветаево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6" name="Picture 5" descr="foto"/>
          <p:cNvPicPr/>
          <p:nvPr/>
        </p:nvPicPr>
        <p:blipFill>
          <a:blip r:embed="rId1"/>
          <a:stretch/>
        </p:blipFill>
        <p:spPr>
          <a:xfrm>
            <a:off x="6443640" y="1916280"/>
            <a:ext cx="2143080" cy="3333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foto"/>
          <p:cNvPicPr/>
          <p:nvPr/>
        </p:nvPicPr>
        <p:blipFill>
          <a:blip r:embed="rId2"/>
          <a:stretch/>
        </p:blipFill>
        <p:spPr>
          <a:xfrm>
            <a:off x="324000" y="1916280"/>
            <a:ext cx="2371680" cy="3333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foto"/>
          <p:cNvPicPr/>
          <p:nvPr/>
        </p:nvPicPr>
        <p:blipFill>
          <a:blip r:embed="rId3"/>
          <a:stretch/>
        </p:blipFill>
        <p:spPr>
          <a:xfrm>
            <a:off x="3203640" y="3068640"/>
            <a:ext cx="27432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ын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Мурльга! Прости меня, но дальше было бы хуже. Я тяжело больна, это уже не я. Люблю тебя безумно. Помни, что я больше не могла жить. Передай папе и Але,- если увидишь,- что любила их до последней минуты, и объясни, что попала в тупик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эту Асеев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 В сундуке несколько рукописных книжек стихов и пачка с оттиском прозы. Поручаю их Вам. Берегите моего дорогого Мура. А меня простите- не вынесл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 завещ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…я бы хотела, чтобы на одном из тех холмов поставили с тарусской каменоломни камень с надписью: «Здесь хотела бы лежать Марина Цветаев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 обращаюсь с требованием ве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с просьбой о любв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мя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6" descr="портретМЦ"/>
          <p:cNvPicPr/>
          <p:nvPr/>
        </p:nvPicPr>
        <p:blipFill>
          <a:blip r:embed="rId1"/>
          <a:stretch/>
        </p:blipFill>
        <p:spPr>
          <a:xfrm>
            <a:off x="3059280" y="1844640"/>
            <a:ext cx="2670120" cy="3933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силует"/>
          <p:cNvPicPr/>
          <p:nvPr/>
        </p:nvPicPr>
        <p:blipFill>
          <a:blip r:embed="rId2"/>
          <a:stretch/>
        </p:blipFill>
        <p:spPr>
          <a:xfrm>
            <a:off x="250920" y="333360"/>
            <a:ext cx="2073240" cy="2808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CVET082"/>
          <p:cNvPicPr/>
          <p:nvPr/>
        </p:nvPicPr>
        <p:blipFill>
          <a:blip r:embed="rId3"/>
          <a:stretch/>
        </p:blipFill>
        <p:spPr>
          <a:xfrm>
            <a:off x="6443640" y="189000"/>
            <a:ext cx="2165400" cy="2997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CVET163"/>
          <p:cNvPicPr/>
          <p:nvPr/>
        </p:nvPicPr>
        <p:blipFill>
          <a:blip r:embed="rId4"/>
          <a:stretch/>
        </p:blipFill>
        <p:spPr>
          <a:xfrm>
            <a:off x="6300720" y="3429000"/>
            <a:ext cx="2608200" cy="321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mcрисунок"/>
          <p:cNvPicPr/>
          <p:nvPr/>
        </p:nvPicPr>
        <p:blipFill>
          <a:blip r:embed="rId5"/>
          <a:stretch/>
        </p:blipFill>
        <p:spPr>
          <a:xfrm>
            <a:off x="468360" y="3573360"/>
            <a:ext cx="1849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етят они,- написанные наспе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рячие от горечи и не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жду любовью и любовью распя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й миг, мой час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й ден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й год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й 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6.09.1892-31.08.194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Я тоже 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был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, прохожий!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хожий, остановись!...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Picture 8" descr="mcФото3"/>
          <p:cNvPicPr/>
          <p:nvPr/>
        </p:nvPicPr>
        <p:blipFill>
          <a:blip r:embed="rId1"/>
          <a:stretch/>
        </p:blipFill>
        <p:spPr>
          <a:xfrm>
            <a:off x="324000" y="1700280"/>
            <a:ext cx="4070160" cy="395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mcФото6"/>
          <p:cNvPicPr/>
          <p:nvPr/>
        </p:nvPicPr>
        <p:blipFill>
          <a:blip r:embed="rId2"/>
          <a:stretch/>
        </p:blipFill>
        <p:spPr>
          <a:xfrm>
            <a:off x="4932360" y="1803240"/>
            <a:ext cx="36640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Благодарю за урок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До свидания…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Я счастлива жить образцово и просто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 солнце- как маятник- как календарь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ку на сердце полож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 не знатная госпож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- мятежница лбом и чре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 обращаюсь с требованием в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с просьбой о любв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6 сентября (8 октября) в Москве, в семье профессора Московского университета (позже — основателя Музея изобразительных искусств) Ивана Владимировича Цветаева и его жены, Марии Александровны, урожденной Мейн, родилась дочь Марин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foto"/>
          <p:cNvPicPr/>
          <p:nvPr/>
        </p:nvPicPr>
        <p:blipFill>
          <a:blip r:embed="rId1"/>
          <a:stretch/>
        </p:blipFill>
        <p:spPr>
          <a:xfrm rot="216000">
            <a:off x="5508360" y="3141360"/>
            <a:ext cx="2095560" cy="333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Гроздья рябины фото"/>
          <p:cNvPicPr/>
          <p:nvPr/>
        </p:nvPicPr>
        <p:blipFill>
          <a:blip r:embed="rId2"/>
          <a:stretch/>
        </p:blipFill>
        <p:spPr>
          <a:xfrm>
            <a:off x="1042920" y="3357720"/>
            <a:ext cx="3600360" cy="28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6 сентября 1892 года, с субботы на воскресенье, в полночь родилась Марина Цветаев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" descr="ЦВ1893"/>
          <p:cNvPicPr/>
          <p:nvPr/>
        </p:nvPicPr>
        <p:blipFill>
          <a:blip r:embed="rId1"/>
          <a:stretch/>
        </p:blipFill>
        <p:spPr>
          <a:xfrm>
            <a:off x="1258920" y="1989000"/>
            <a:ext cx="633564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 в Тарус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8" descr="домик в Таруссе"/>
          <p:cNvPicPr/>
          <p:nvPr/>
        </p:nvPicPr>
        <p:blipFill>
          <a:blip r:embed="rId1"/>
          <a:stretch/>
        </p:blipFill>
        <p:spPr>
          <a:xfrm>
            <a:off x="0" y="1268280"/>
            <a:ext cx="6033960" cy="356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марина4"/>
          <p:cNvPicPr/>
          <p:nvPr/>
        </p:nvPicPr>
        <p:blipFill>
          <a:blip r:embed="rId2"/>
          <a:stretch/>
        </p:blipFill>
        <p:spPr>
          <a:xfrm>
            <a:off x="5580000" y="3789360"/>
            <a:ext cx="3203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Вечерний альбом» 1910 г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83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рина Цветаева печатала свои стихи с шестнадцати лет. В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1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оду она издает за свои средства в типограф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И. Мамонтова сборник стихов "Вечерний альбом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500 экземпляров), посвященны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рии Башкирцев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Мария Башкирцева"/>
          <p:cNvPicPr/>
          <p:nvPr/>
        </p:nvPicPr>
        <p:blipFill>
          <a:blip r:embed="rId1"/>
          <a:stretch/>
        </p:blipFill>
        <p:spPr>
          <a:xfrm>
            <a:off x="5435640" y="1484280"/>
            <a:ext cx="35510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бросанным в пыли по магазин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где их никто не брал и не берёт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им стихам, как драгоценным вина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станет свой черё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8:42:45Z</dcterms:created>
  <dc:creator>Tanya</dc:creator>
  <dc:description/>
  <dc:language>en-US</dc:language>
  <cp:lastModifiedBy>Tanya</cp:lastModifiedBy>
  <dcterms:modified xsi:type="dcterms:W3CDTF">2014-01-23T20:07:36Z</dcterms:modified>
  <cp:revision>5</cp:revision>
  <dc:subject/>
  <dc:title>«Марина Цветаева-любовь и боль моя…»</dc:title>
</cp:coreProperties>
</file>