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0DF-F235-4AAF-8E66-63506E30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FD7-6BB1-43F0-ACFC-8B20CC3B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33F-0400-4589-80E4-6A1820C4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47A-153A-4EB3-AE55-E6648758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0808-E8E3-4B57-A5BA-CA845A66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B87F-E07E-4058-B8FC-94C9BC24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7231-86D1-4AE3-87C2-0AC16767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E048-8599-4A0E-8A47-826C6117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6B56-CD5A-40AF-A192-58E2607B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8DAB-10B0-4932-A3AA-4CC2DF02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C480-7247-470B-8725-6F7007F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E2C-1A16-4895-BB7D-27141113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4164-177F-40E0-BD82-2B66704C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8AAC-F6ED-4E49-B18C-DDC1ED6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2DF2-0DF5-4412-8D23-C2419871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B5FF-613E-40F7-ADAF-8D0572E3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BA3D-F825-4EDE-B64B-5D338B88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891-2092-43D0-8758-359791F0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DBD-04BF-4159-90D0-1F354979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CDA-91D1-48CE-939B-53222F2E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546-8C94-49AC-B723-D2515E94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135-7175-4B82-B875-68C5E6D4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6AC-BC42-4BAE-B25D-C0607445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F4D-8FFE-4CD3-BC55-A3AF9440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D722-896F-4611-857E-3E81E2DFB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1F32-AD60-4F0E-938B-32C519A6B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ПРИКЛЮЧЕНИЯ ВИННИ-ПУХ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ЖНЕНИЯ НА АВТОМАТИЗАЦИЮ ЗВУ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банова М.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90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Повтори вместе с Винни-пухом чистоговорки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-РА-РА, РА-РА-Р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МА, РАК, ГОРА, Н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-РО-РО, РО-РО-Р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ЗА, РОЩА, РОТ, ПЕР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-РУ-РУ, РУ-РУ-Р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КИ, РУЖЬЯ, КЕНГУ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Ы-РЫ-РЫ, РЫ-РЫ-Р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ЫБА, РЫНОК, РЫЖИК, РЫ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781360"/>
            <a:ext cx="14400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Понравилась тебе сказк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340000" y="2708280"/>
            <a:ext cx="504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ейчас на экране появится медвежонок Винни-Пух. Он расскажет тебе о своих приключениях, а ты будешь помогать ему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5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инни-Пух гулял по лесу и весело напевал свою песенку: ру-ру-ру, ру-ру-ру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75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друг на него напали пчелы, и он стал сердито прогонять их: ры-ры-ры, 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ы-ры-ры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5761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челы разозлились и покусали Винни-Пуха. Он громко заплакал: ро-ро-ро, ро-ро-ро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8323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челам стало жаль Винни-Пуха и они угостили его медом. Медвежонок обрадовался и запел веселую песенку: ра-ра-ра, ра-ра-ра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0:52:00Z</dcterms:created>
  <dc:creator>1</dc:creator>
  <dc:description/>
  <dc:language>en-US</dc:language>
  <cp:lastModifiedBy>1</cp:lastModifiedBy>
  <dcterms:modified xsi:type="dcterms:W3CDTF">2012-11-29T11:30:17Z</dcterms:modified>
  <cp:revision>2</cp:revision>
  <dc:subject/>
  <dc:title>ПРИКЛЮЧЕНИЯ ВИННИ-ПУХА</dc:title>
</cp:coreProperties>
</file>